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106-6426-4F4D-8BB1-FB04F582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1AA-B0CA-4FEE-BABF-B244B13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D0A-9FBC-4DB7-8169-73DC40CC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941-C285-4C5E-8C70-C4D273F4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2A76-DCFF-445D-BC60-B76FF242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382-C495-4F7D-B967-FB80857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B66-51F6-41AA-858B-6858D5E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9DAF-836F-42BD-A97A-54300B2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A686-2440-4A9E-9CEB-9198E2EC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5F6-AFB8-47C3-BD78-80E9A2C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21EF-D947-40F7-97C2-0C11246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B12-195E-433A-A42C-6A144AB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519E-1F28-40B2-B517-E2ECCB0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5E3F-82ED-4AA8-AEC3-6D4E0AF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7022-9F82-426F-A52A-6F6CAD7D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107-02D4-41A0-925C-E1E97283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64B-0F97-404D-8DC0-88790AE5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8F3-A617-461B-82C5-D6D7BFD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66F-0054-4296-83DD-20B0D18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D5C-255E-4D5D-B612-8E4D78C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821-F1BB-4003-8406-89CABCD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A18-3D03-4A54-A50E-5D3DA8B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49F-180C-42F3-99DA-7915C59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F0B-8DD5-4A56-8F41-71B2341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5E3-7F63-4F04-B45E-9C778568FA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E63E-3F2A-4DF0-B8D8-BEF9515B61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необычных способов похудет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ществует несколько нетрадиционных способов похуде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5157720"/>
            <a:ext cx="482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чет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уторина Таис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9 – Дышите правильн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066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пробуйте цзяй-фен, это древнейший китайский способ похудеть. Даже несколько минут правильного дыхания, соединяющего в себе мужской и женский типы дыхания (брюшное + грудное), усиливают обменные процессы в организме, заставляют живот подтянуться и убирают жировые складки на бедр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хема его такова. Для глубокого вдоха сначала нужно выпятить живот, опуская диафрагму. Потом заполнить воздухом грудь, приподнимая плечи. Затем надо задержать дыхание на несколько секунд и приступить к выдоху. Начинать выдыхать надо «сверху»-опуская плечи, сжимать грудную клетку и только потом втягивать живо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ильное верхнее (грудное) дыхание насыщает кровь кислородом, значит, усиливает обменные процессы и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жигает жир. Нижнее (брюшное) дыхание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ставляет пищу лучше усваивать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48360" y="2970360"/>
            <a:ext cx="3533760" cy="3887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10 – Забудьте о сол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51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еделю без соли можно потерять до 5 кг и избавиться от отеков – ведь лишнюю жидкость задерживает именно она. Жареная рыба, курица, говядина, а также сырые яйца, приличное количество капусты, моркови…Главное –  все без соли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11 – Ведите дневник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писывайте в него не только достижения, но и постыдные поступки, которые мешают вам добиться цели. Дневник поможет держать ситуацию под контроле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1800360"/>
            <a:ext cx="3772080" cy="273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12 – Спите больш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270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ушение сна, по данным научного журнал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ce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провоцируют ожирение, т. к. приводят к гормональному дисбалансу. Лептина – гормона, снижающего потребление пищи                                                 и стимулирующего физическую                                              активность, в организме                                                   становится меньше. Зато растет                                                уровень его антипода –                                                нейропептид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настоятельно                                                                  требующего «Больше пищи!»,                                                                  в результате вы поправляйтес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2822400" cy="40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2000" y="3141720"/>
            <a:ext cx="2406600" cy="3365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1 - срочно влюбитесь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ологи рассматривают любовь как сложный биохимический процесс, происходящий в организме. Это своего рода настоящий гормональный взрыв, который приводит к нехватке серотонина и избытку адреналина. Что же касается допомина (гормона удовольствия), он гарантирует нам полную «зацикленность» на предмете обожания и желания любой ценой добиться поставленной цели. Такой гормональный взрыв и                                       заставляет нас терять аппетит от                                         любви. Гормоны также способствуют                                         быстрому усваиванию и перевариванию                                                      пищи. В результате лишние килограммы                                      будут таять у вас на глазах.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2 – смейтесь больш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196640"/>
            <a:ext cx="3022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0920" y="1196640"/>
            <a:ext cx="46753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казывается, когда в рот  попадает смешинка, мы от нее не полнеем, а худеем. Вы не поверите, но за 10 минут смеха тратиться 50 ккал, что равноценно дольке шоколада. За год таких ежедневных «упражнении» можно дополнительно сбросить 2 кг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мех можно сравнить с бегом трусцой – хохоча, мы тратим физические усилия. Во время смеха ритм сердечных сокращении удваивается, потребление кислорода увеличивается, мышцы живота и диафрагмы активно работают. Итого 10-минутная «порция» смеха равноценна 3 минутам умеренных физических упражн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07944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3 – Вдыхайте ароматы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7561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купайте аромалампу, зажигайте в ней свечу и капайте 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шечку несколько капель эфирного масла. Вдыхайте – и ждите чуде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правило, сбросить лишний вес помогают запахи черного перца и свежемолотого имбиря. Улучшают обмен веществ цитрусовые ароматы (лимона или апельсина). Грейпфрутовое масло прогоняет голод. Фиалка и ваниль снижают аппетит. Имбирь нормализует пищеварение.                                                    Масла мяты, мелисы, валерьяны,                                                          сандала расслабляют и                                                                       избавляют от тревоги (что                                                                     особенно нужно, если вы                                                            нервничаете, сидя на диете).                                                                     Лаванда, бергамот, пихта,                                                                       базилик помогают пережить                                          депрессию. лаванда выгоняет                                                          из организма лишнюю жидк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роматические масла можно                                                     использовать как духи или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бавить в соль для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нны, пропитать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 белье, букет из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хоцвето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1385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4 – Покупайте обновк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420640"/>
            <a:ext cx="3772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87640" cy="31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202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ем, чем дороже, тем большего успеха вы добьетесь. Главное в сложной науке похудеть - -мотивация. Это вам скажет любой психолог, который консультирует толстушек.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 конкретнее женщина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вит перед собой задачу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бросить лишний вес, те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льше она к ней стремитс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ем легче соблюдать 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ету и тем скорее приде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пех. Дорогие часы 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ксклюзивные украшения -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ель из того же ряд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5 – пробуйте иголк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07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особ этот очень популярен в России. Воздействуя на определенные точки в организме человека, иглотерапевты настраивают энергетическую систему человека, восстанавливают циркуляцию потоков «инь» и «ян», активизируют виновные в полноте органы, снижают аппетит, усиливают обмен веществ. И лишнии вес уходит. Иголки вкалывают в живот и в ухо. А еще врачи делают аппликацию из семян лекарственных растений на точки, расположенные на ушных раковинах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отвечающие за аппетит, обмен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ществ, пищеварение. Неделю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одно ухо, неделю 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го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2482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6 – Скажите кефиру «ДА»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980640"/>
            <a:ext cx="4348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ефир – замечательный диетический продукт, полезный для здоровь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несколько вариантов кефирной диеты. Первый – 1 – 1,5 литра в течение 3-х дней. Второй – то же самое + до килограмма фруктов и (или) овощей в течение 5 дней. Третий – каждый день к кефиру добавлять либо курицу, либо яблоки, либо яйца, либо несколько картофелин в течении недели. Потеря веса неизбежна, а вот дисбактериоз – частый спутник тех, кто сидит на диете, - не проявит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9639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7 – поменяйте посуду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пите тарелки и чашки как для дюймовочки. Хорошо бы и детские столовые приборы приобрести. Крошечными вилочками из маленькой посуды есть неудобно, и чувство насыщения скоро придет. Так вы незаметно станете малоежк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ы не хотите набрать                                                               ненужных килограммов,                                                             выбирайте синие и                                                                       голубые обои на кухне,                                                               такого же оттенка                                                                    подбирайте и сервировку                                                              стола, и не ошибетесь.                                                            Повесьте перед                                                                      обеденным столом                                                                     большое зеркало. ничто                                                                          так не дисциплинирует                                                                 желание съесть                                                                              лишний кусочек, как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ражение собственной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гу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95640" y="2376360"/>
            <a:ext cx="4570560" cy="42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 8 – «Остудите» аппети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196640"/>
            <a:ext cx="4032000" cy="304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06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репите на кухне магнитом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абличку «Холодильник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крывается в 20.00». Все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вестно: ничто так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бавляет лишни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илограммов, как позд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жины и перекусы. А мож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красить дверцу фотографией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се равно – прежней худой или уже набравшей килограммы. Такие меры серьезно «остужают» аппетит. И еще – не покупайте продукты впрок. Холодильник должен быть наполовину полным (или наполовину пустым), как и ваш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желуд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2:41:18Z</dcterms:created>
  <dc:creator>Галина</dc:creator>
  <dc:description/>
  <dc:language>en-US</dc:language>
  <cp:lastModifiedBy>Малышева</cp:lastModifiedBy>
  <dcterms:modified xsi:type="dcterms:W3CDTF">2011-01-26T17:50:02Z</dcterms:modified>
  <cp:revision>6</cp:revision>
  <dc:subject/>
  <dc:title>12 необычных способов похудеть.</dc:title>
</cp:coreProperties>
</file>